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9EA-E854-40E4-A3AD-A443422B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3B9-DDE4-4BAA-8BC3-0A694ACE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AB3-A383-4E15-8BC9-000718B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A0B-D00E-4DF4-980A-E64B6CAC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4F8-4C3B-406A-B6FB-BF5D6FFC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32A-26D3-4B0D-BB23-9C84E44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B28-3374-44E6-AA68-63C2E8C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B08-6E23-4052-8A71-08F33B03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BBC-9C7E-44C7-BC54-3FFD181F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D6B-B580-4BB1-801B-C776FAF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37E-B41A-445F-ACEC-76EAA105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686-F5AF-4D5E-9715-6747050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6E8-5CF6-4AB8-9E7C-11F0ABDD9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EQUI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0760" y="0"/>
            <a:ext cx="9093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775040" y="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590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003640" y="1981080"/>
            <a:ext cx="4140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838080" y="22320"/>
            <a:ext cx="7391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419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4800600" y="-90360"/>
            <a:ext cx="350532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48120" cy="27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819520" y="211464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Rectangle 2"/>
          <p:cNvGrpSpPr/>
          <p:nvPr/>
        </p:nvGrpSpPr>
        <p:grpSpPr>
          <a:xfrm>
            <a:off x="3676680" y="5529240"/>
            <a:ext cx="2475000" cy="639720"/>
            <a:chOff x="3676680" y="5529240"/>
            <a:chExt cx="2475000" cy="639720"/>
          </a:xfrm>
        </p:grpSpPr>
        <p:pic>
          <p:nvPicPr>
            <p:cNvPr id="55" name="Rectangle 2" descr=""/>
            <p:cNvPicPr/>
            <p:nvPr/>
          </p:nvPicPr>
          <p:blipFill>
            <a:blip r:embed="rId2"/>
            <a:stretch/>
          </p:blipFill>
          <p:spPr>
            <a:xfrm>
              <a:off x="3676680" y="5529240"/>
              <a:ext cx="2475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733920" y="5562720"/>
              <a:ext cx="2361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209680" y="3511440"/>
            <a:ext cx="4724640" cy="334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4800600" y="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3:50:35Z</dcterms:created>
  <dc:creator>ECU</dc:creator>
  <dc:description/>
  <dc:language>en-US</dc:language>
  <cp:lastModifiedBy>ECU</cp:lastModifiedBy>
  <dcterms:modified xsi:type="dcterms:W3CDTF">2010-02-04T03:36:47Z</dcterms:modified>
  <cp:revision>4</cp:revision>
  <dc:subject/>
  <dc:title>Slide 1</dc:title>
</cp:coreProperties>
</file>